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E9F6D-4992-470E-8E32-89379145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07ED2-E972-47B1-A2E9-E8E27BBB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CA9F3-EB36-490F-8289-694B2F7C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21A91-DA9C-4E4D-B57F-F25AE5FC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1203-0FA2-4F1F-8180-59E0FDC1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AA35-F50C-4123-B52E-BA436E74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2D39-5B8B-47B2-934F-552E9031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CB1B-C407-4706-B282-6A0A2B91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3AD3-A422-49A2-BDA9-2AE423F1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C144-1117-4C5B-BDDD-820C6793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8C10-30A9-484E-AA5C-15A51476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C046A-5C45-4B2C-9118-F2E51389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70AC-85ED-4FF9-B91E-5F3EA914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073B-4127-4721-AFE1-826842D2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1136-426D-4FCB-94DF-62473712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B4C0-7C41-4CBE-9D5E-D10B35BE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8C2A-CA82-48C8-AAF8-7537C32C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AAB5A-D3AC-4B66-B171-00541108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3BF93-C54D-4243-BF10-32147365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2BED7-E44B-4493-BCBF-C8CF2F46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B314D-ADEE-4451-95D7-3545767E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5DF96-57E0-426C-8241-826414BD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77C2A-C3C8-41F0-AB6F-82AEE7C9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28FB-02EF-4FEA-B135-00FF8A92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D27E-A295-47F0-A045-E710C7B561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C12F-07A0-4369-90F1-53718BFC95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" Target="slide5.xml"/><Relationship Id="rId4" Type="http://schemas.openxmlformats.org/officeDocument/2006/relationships/image" Target="../media/image3.jpeg"/><Relationship Id="rId5" Type="http://schemas.openxmlformats.org/officeDocument/2006/relationships/slide" Target="slide6.xm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neral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challenge you with random cip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Games men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structions on the scre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 game help 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explain the details o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ing against 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191120" y="1676520"/>
            <a:ext cx="4647960" cy="41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5907E-8FCF-4A80-92B7-79B4B647B8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run standardized randomness tests against binary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828800" y="2895480"/>
            <a:ext cx="68580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5003A-AB09-4CC6-8E67-343B115C10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s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 provides a tool for long integer arithm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733920" y="2666880"/>
            <a:ext cx="377964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F6FF-AFF4-4AF1-8BAB-FE0F528C8A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can monitor your code breaking activities and provide a record of your use of other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help you avoid redo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724280" y="1752480"/>
            <a:ext cx="35467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8311-87B9-4FE3-8A0F-CC9CF8B861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alysis Bar offers tools than may prove useful in breaking 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562720" y="838080"/>
            <a:ext cx="1363680" cy="556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BE398-6D6C-4BB1-A8EF-E130614E93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is a general purpose tool for the study of classical (and some contemporary) ciph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is really three related programs i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that will encrypt and decrypt text using your choice of several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tools for breaking unknown cip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me which will generate random ciphers and challenge you to break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" y="5867280"/>
            <a:ext cx="74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his presentation will introduce you to the general features of 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C55DE-9611-4C40-BCB9-8D68FA7248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items below to jump to help on the specific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just continue to advance through this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276720"/>
            <a:ext cx="2333880" cy="542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9480" y="3886200"/>
            <a:ext cx="2343240" cy="51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3520" y="4457880"/>
            <a:ext cx="2390760" cy="49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7086600" y="44197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3657600" y="5638680"/>
            <a:ext cx="2362320" cy="4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609480" y="6172200"/>
            <a:ext cx="231480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3657600" y="3276720"/>
            <a:ext cx="2371680" cy="51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3657600" y="4419720"/>
            <a:ext cx="2343240" cy="52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3657600" y="3886200"/>
            <a:ext cx="2314440" cy="466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3581280" y="5029200"/>
            <a:ext cx="2571840" cy="542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609480" y="5029200"/>
            <a:ext cx="2333880" cy="514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533520" y="5562720"/>
            <a:ext cx="2571480" cy="51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FBE29-1250-4A0F-BC48-1B879B6AB2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819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first open CAP this is the main wind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581280" y="1981080"/>
            <a:ext cx="5257800" cy="459576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7086600" y="2286000"/>
            <a:ext cx="1219320" cy="762120"/>
            <a:chOff x="7086600" y="2286000"/>
            <a:chExt cx="1219320" cy="762120"/>
          </a:xfrm>
        </p:grpSpPr>
        <p:sp>
          <p:nvSpPr>
            <p:cNvPr id="134" name=""/>
            <p:cNvSpPr/>
            <p:nvPr/>
          </p:nvSpPr>
          <p:spPr>
            <a:xfrm>
              <a:off x="7086600" y="2286000"/>
              <a:ext cx="1219320" cy="7621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64360" y="2286000"/>
              <a:ext cx="113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012440" y="3886200"/>
            <a:ext cx="1310040" cy="762120"/>
            <a:chOff x="7012440" y="3886200"/>
            <a:chExt cx="1310040" cy="762120"/>
          </a:xfrm>
        </p:grpSpPr>
        <p:sp>
          <p:nvSpPr>
            <p:cNvPr id="137" name=""/>
            <p:cNvSpPr/>
            <p:nvPr/>
          </p:nvSpPr>
          <p:spPr>
            <a:xfrm>
              <a:off x="7022880" y="3886200"/>
              <a:ext cx="1219320" cy="7621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2440" y="3886200"/>
              <a:ext cx="13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Cipher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85E3F-A00A-4830-972B-1028132CCE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text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men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you to op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, print, or conve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86200" y="1981080"/>
            <a:ext cx="4414680" cy="3886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4191120" y="1981080"/>
            <a:ext cx="990360" cy="533520"/>
            <a:chOff x="4191120" y="1981080"/>
            <a:chExt cx="990360" cy="533520"/>
          </a:xfrm>
        </p:grpSpPr>
        <p:sp>
          <p:nvSpPr>
            <p:cNvPr id="146" name=""/>
            <p:cNvSpPr/>
            <p:nvPr/>
          </p:nvSpPr>
          <p:spPr>
            <a:xfrm>
              <a:off x="4191120" y="1981080"/>
              <a:ext cx="990360" cy="533520"/>
            </a:xfrm>
            <a:prstGeom prst="wedgeRoundRectCallout">
              <a:avLst>
                <a:gd name="adj1" fmla="val -43268"/>
                <a:gd name="adj2" fmla="val 78569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2560" y="1981080"/>
              <a:ext cx="94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onver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ASC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55520" y="2819520"/>
            <a:ext cx="4340160" cy="3200400"/>
            <a:chOff x="155520" y="2819520"/>
            <a:chExt cx="4340160" cy="3200400"/>
          </a:xfrm>
        </p:grpSpPr>
        <p:sp>
          <p:nvSpPr>
            <p:cNvPr id="149" name=""/>
            <p:cNvSpPr/>
            <p:nvPr/>
          </p:nvSpPr>
          <p:spPr>
            <a:xfrm>
              <a:off x="3962520" y="2819520"/>
              <a:ext cx="53316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2133720" y="3200400"/>
              <a:ext cx="157788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55520" y="3505320"/>
              <a:ext cx="196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verting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s is usefu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a variety of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ph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9E1E5-5A1A-4FAE-B264-D8A7B76C9C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phertext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phertext men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you to ope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, print, or conve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4038480" cy="3525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05D89-891D-47EA-9F64-8BDCB4C8B9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 is the process of separating the ciphertext into segments of fixed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it easier to read without giving away standard word sp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2390760" cy="3324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134320" y="434016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Block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nu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87840" y="2971800"/>
            <a:ext cx="3588480" cy="1521000"/>
            <a:chOff x="987840" y="2971800"/>
            <a:chExt cx="3588480" cy="1521000"/>
          </a:xfrm>
        </p:grpSpPr>
        <p:sp>
          <p:nvSpPr>
            <p:cNvPr id="162" name=""/>
            <p:cNvSpPr/>
            <p:nvPr/>
          </p:nvSpPr>
          <p:spPr>
            <a:xfrm>
              <a:off x="1197000" y="3407040"/>
              <a:ext cx="3142800" cy="108576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7840" y="297180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pherText without spa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7440" y="3505320"/>
              <a:ext cx="289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pnzyklttekwpovbz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ioittnbzyqaceero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77840" y="4654440"/>
            <a:ext cx="3429000" cy="1521000"/>
            <a:chOff x="1077840" y="4654440"/>
            <a:chExt cx="3429000" cy="1521000"/>
          </a:xfrm>
        </p:grpSpPr>
        <p:sp>
          <p:nvSpPr>
            <p:cNvPr id="166" name=""/>
            <p:cNvSpPr/>
            <p:nvPr/>
          </p:nvSpPr>
          <p:spPr>
            <a:xfrm>
              <a:off x="1077840" y="5089680"/>
              <a:ext cx="3429000" cy="108576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97640" y="4654440"/>
              <a:ext cx="33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pherText with bloc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74040" y="5187960"/>
              <a:ext cx="3119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pnzy kltte kwpov bz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ioit tnbzy qacee ro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B860-D082-4C59-94D2-025247D6F7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phers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phers Menu lists all the possible algorithms which CAP is capable of ru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are being added all th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mplement a cipher, click 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s name in th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2827440" cy="4648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2240" y="4267080"/>
            <a:ext cx="40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Help on each ciph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vailable from the main help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from the help feature of ea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cip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B948D-8976-49E1-BDC1-0CD30B9935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solv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solve is not active at this time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7D497-4CAD-477E-A08A-54B18B20EA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2T00:45:37Z</dcterms:modified>
  <cp:revision>23</cp:revision>
  <dc:subject/>
  <dc:title>CAP Cryptographic Analysis Program</dc:title>
</cp:coreProperties>
</file>